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0A2-5D2A-4E83-BC27-15EC454A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9C4-A358-45CC-9A94-7CE397C1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766-A261-4032-9540-D64038E6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41D-2ABD-4268-84C4-DFA41773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D02F-C9C5-470E-9AEB-FC2C772D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7F1B-DE4B-45CB-8D3B-74382424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575E-80CD-4C53-8E42-93B0F670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2631-12CA-481F-9A74-C317C0ED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102E-DD58-4AA1-8907-8B1689D2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B1A5-906B-49C4-AEEF-77D0FBA2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72D8-0E2C-479D-AA78-3FB3CDB2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7B8-5B06-4E65-9185-9795E044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7513-30B0-4637-9A4B-AC1FD4F5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67B6-A305-4166-8F23-F4C07F9E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8E6A-B8B3-4AB9-8A7D-0F1957D7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3215-53EF-48AB-BE53-04060A0F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3E00-E445-4999-B19E-66E1C7DE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5A499-455E-429C-9725-FEADD1FF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1D8E4-1812-47B6-AE33-15F76337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022DD-E2F7-420F-AE79-82DB417C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C2389-F588-4F0E-83FD-866D6F22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363E9-F410-4B1E-AF15-0B359C3B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062-0DD5-43A3-BC8A-C0069EDC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C4A1F-6092-49AF-A16E-45F6A85F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421E3-5C47-404F-B7F5-3085765A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D7E16-FE75-4311-8B03-A798499B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0A6EF-0D37-4DE3-8515-A5367F9A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4E6B9-6861-49C4-9D02-A15CD3F5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DA747-9830-4960-A99E-33359287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36D1C-D6C4-41AE-98D2-72C1A595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BF8FB-05FB-446D-AC51-1A00D845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58FC9-40D7-49E6-BC57-988C33C2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CA1ED-1670-464C-B81B-5BB3B569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F5D1-7FBD-4305-8789-582AE4BC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5B7D2-4846-4579-A373-C57B35EF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55FC0-5C98-4B8E-B087-504A0C1E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5FBF7-D17E-4FE7-AAD0-B18840ED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9DD2C-66B3-4DBF-BB55-BFB89D56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B655F-1419-4E84-BEF2-455597EB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FA338-23C5-4AE8-841D-4CFA4A28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55D1C-9863-425A-AADB-5F837D69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EECCF-DA5F-4407-981A-E9EB4022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588A3-79FB-460A-A0BD-32DC6DB5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C62-569C-4EE0-82A9-223148F3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07C-EA80-418B-A356-231C650B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4F7-36CE-4A43-AFE7-4A94E256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68BB-6E33-4F11-9533-0E3611FF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F43-B5E7-48EF-B198-3D5BFF7F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DFED-A3FD-4512-BB91-AFF69A5E9871}" type="slidenum">
              <a:rPr b="0" lang="ru-RU" sz="1000" spc="-1" strike="noStrike">
                <a:solidFill>
                  <a:srgbClr val="9b9a98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AA13-2D31-4C13-9CAD-E2BDBEF2A399}" type="slidenum">
              <a:rPr b="0" lang="ru-RU" sz="1000" spc="-1" strike="noStrike">
                <a:solidFill>
                  <a:srgbClr val="9b9a98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2CC2-91F9-4558-B83B-39662F5C0495}" type="slidenum">
              <a:rPr b="0" lang="ru-RU" sz="1000" spc="-1" strike="noStrike">
                <a:solidFill>
                  <a:srgbClr val="9b9a98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DC81-D657-4DD6-A561-FA3B52D98C0A}" type="slidenum">
              <a:rPr b="0" lang="ru-RU" sz="1000" spc="-1" strike="noStrike">
                <a:solidFill>
                  <a:srgbClr val="9b9a98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Лекция.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Franklin Gothic Book"/>
              </a:rPr>
              <a:t>Финансовый контроль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0920" y="1069560"/>
            <a:ext cx="7467480" cy="119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Franklin Gothic Book"/>
              </a:rPr>
              <a:t>В зависимости от субъектов, осуществляющих финансовый контроль, различают:</a:t>
            </a:r>
            <a:br>
              <a:rPr sz="41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2276280"/>
            <a:ext cx="74674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осударственный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нутрихозяйственный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щественный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зависимый (аудиторский) финансовый контроль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осударственный контроль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это финансовый контроль за своевременностью полнотой мобилизации государственных ресурсов, законностью расходов и доходов всех звеньев государственной финансовой системы, за соблюдением правил учета и отчет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нутрифирменный финансовый контрол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утрихозяйственный финансовый контроль осуществляется экономическими службами предприятий, организаций и учреждений. Объектом здесь выступает производственная и финансовая деятельность самого предприятия, а также его структурных подраздел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щественный финансовый контрол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полняют группы, специалисты на добровольной и безвозмездной основ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зависимый финансовый контрол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существляют специализированные аудиторские фирмы и служб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00"/>
                </a:solidFill>
                <a:latin typeface="Franklin Gothic Book"/>
              </a:rPr>
              <a:t>Формы проведения финансового  контроля: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 времени проведе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) предварительны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б) текущий (оперативный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) последующ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финишный, результирующи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3964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существляется на стадии составления, рассмотрения и утверждения финансовых планов предприятия, смет доходов и расходов учреждений и организаций, проектов бюджетов, текстов договорных соглашений, учредительных документов и так дале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пособствует предотвращению неправильного, нерационального расходования материальных, трудовых и финансовых ресурсов, а также отрицательных финансовых результатов деятельности хозяйствующих органов в целом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озволяет предупредить нарушение законов и нормативных актов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Franklin Gothic Book"/>
              </a:rPr>
              <a:t>1.Предварительный финансовый контроль </a:t>
            </a:r>
            <a:br>
              <a:rPr sz="43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Book"/>
              </a:rPr>
              <a:t>2. Текущий финансовый контроль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360" y="134100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роводится в процессе исполнения финансовых планов, в ходе осуществления хозяйственно-финансовых операций, когда проверяется соблюдение норм и нормативов расходования товарно-материальных ценностей и денежных средств, соответствие отпуска средств выполнению планов расходов, использованию ранее выданных ресурсов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редполагает системный факторный анализ деятельности предприятий и организаций в целях выявления полноты и своевременности расчетов с бюджетом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ажное значение текущий финансовый контроль имеет в изыскании внутрихозяйственных резервов роста накоплений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Он производится повседневно финансовыми службами для исключения нарушений финансовой дисциплины в процессе исполнения финансовых планов предприятий, при открытии кредитов финансовыми органами, проверке документации по совершаемым операциям бухгалтерами предприятий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Franklin Gothic Book"/>
              </a:rPr>
              <a:t>3.Последующий финансовый контроль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существляется после завершения отчетного периода и финансового года в цело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оверяется целесообразность расходования государственных денежных средств при исполнении бюджетов, выполнении финансовых планов предприятий и организаций, смет бюджетных учреждени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ценка проведенных мероприятий производится в результате анализа использования материальных, трудовых и финансовых ресурсов, законности операций на основе первичных бухгалтерских документов, конечных финансовых результатов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68000" y="475920"/>
            <a:ext cx="8218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о регламенту осуществления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а) обязательный (внешний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это относится, например, к налоговым проверкам, контролю за целевым использованием бюджетных ресурсов, обязательному аудиторскому подтверждению данных финансово – бухгалтерской отчетности и т.п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б) инициативный (внутренний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о степени охва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а) сплошной и выбороч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) тематический и комплекс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) полный и частичный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188640"/>
            <a:ext cx="8291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"/>
              </a:rPr>
              <a:t>По уровню проведения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 государственны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) внешний (со стороны кредиторов или инвесторов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) ведомственный (по отношению к филиалу, дочерней фирме т.п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) внутрифирменны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"/>
              </a:rPr>
              <a:t>По субъектам контроля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 президентский; законодательных органов власти и местного самоуправле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полнительных органов вла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)финансово – кредитных органов (учреждений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) внутрифирменный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)ведомствен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) аудиторск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ff00"/>
                </a:solidFill>
                <a:uFillTx/>
                <a:latin typeface="Arial"/>
              </a:rPr>
              <a:t>По объектам (по сферам финансовой деятельности) контроля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юджетный; за внебюджетными фонд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логовы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алютны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едитный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раховой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вестиционный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моженный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 денежной масс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По методам проведения контроля, т.е. приемам и способам его проведения различают :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4920" y="2349000"/>
            <a:ext cx="75294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следован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зо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виз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10920" y="333000"/>
            <a:ext cx="79930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Arial"/>
              </a:rPr>
              <a:t>Проверка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оизводится по отдельным вопросам финансово-хозяйственной деятельности предприятия на основе отчетных, балансовых и расходных документов. Выявляются нарушения финансовой дисциплины и намечаются мероприятия по устранению их негативных последстви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Arial"/>
              </a:rPr>
              <a:t>Обследование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хватывает отдельные стороны деятельности предприятий, организаций и учреждений, но в отличие от проверок – по более широкому кругу показателей, и определяет финансовое положение хозяйствующих субъектов, перспективы их развития, необходимость реорганизации или переориентации производства. Проводятся опросы, анкетировани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как метод финансового контроля должен быть системным и пофакторным. Он проводится по периодической или годовой отчетности. Выявляются уровень выполнения плана, соблюдение норм расходования средств, финансовая дисциплина и т.д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Вопросы лек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35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Сущность и принципы финансового контр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Виды финансового контр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10920" y="476280"/>
            <a:ext cx="80643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Надзор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– это контроль за осуществлением финансовых операций в целях их приведения в соответствие с нормами и требованиями действующего законодательст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Наблюдение (мониторинг)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– это систематический контроль за использованием финансовых ресурсов субъекта контроля и его финансовым состоянием. Наблюдение может быть установлено кредитной организацией, но с согласия субъекта, введено арбитражным судом при установлении признаков финансовой несостоятельности хозяйствующего субъек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11280" y="404280"/>
            <a:ext cx="8137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Arial"/>
              </a:rPr>
              <a:t>Ревизия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ыступает одним из важнейших методов финансового контроля и представляет проверку финансово-хозяйственной деятельности предприятия, организации за отчетный период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В зависимости от объекта различают ревизи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полные,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частичные,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тематические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комплексные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При этом они могут </a:t>
            </a: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быть плановые и внеплановые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По степени охвата данных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 процессе ревизии осуществляются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сплошные проверки, когда контролируются все документы и материальные ценности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и выборочные, суть которых заключается в контроле части документов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По характеру материала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, на основе которого проводятся ревизии, они подразделяютс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на документальные (проверка подлинности отчетных документов и записей в учетных регистрах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и фактические (проверка наличия денежных средств и материальных ценностей в натуре)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нансовый контроль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эт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отъемлемый элемент управления финансами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денежными потоками с целью обеспечения целесообразности и эффективности финансовых опера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онодательно регламентированная деятельност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ециально созданных учрежден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троля и контролеров аудиторов за соблюдением финансового законодательства и финансовой дисциплины всех экономических субъек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овокупность целенаправленных мероприяти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проверке соответствия фактического состояния финансовой системы плановому или отчетном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Franklin Gothic Book"/>
              </a:rPr>
              <a:t>Финансовый контроль включает проверку: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людения требований экономических закон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тимальности пропорций распределения и перераспределения стоимости ВНП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я и исполнения бюджета (бюджетный контроль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нансового состояния и эффективного использования трудовых, материальных и финансовых ресурсов предприят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также налоговый контр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Franklin Gothic Book"/>
              </a:rPr>
              <a:t>Перед финансовым контролем стоят задачи: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содействие </a:t>
            </a: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сбалансированности между потребностью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 финансовых ресурсах и </a:t>
            </a: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размерами денежных доходов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и фондов народного хозяйства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обеспечение своевременности и </a:t>
            </a: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полноты выполнения финансовых обязательств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перед государственным бюджетом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выявление внутрипроизводственных резервов роста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финансовых ресурсов, в том числе по снижению себестоимости и повышению рентабельности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содействие рациональному расходованию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материальных ценностей и денежных ресурсов на предприятиях, в организациях и бюджетных учреждениях, а также правильному ведению бухгалтерского учета и отчетности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обеспечение соблюдения действующего законодательства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и нормативных актов, в том числе и в области налогообложения предприятий, относящихся к различным организационно-правовым формам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1640" y="301680"/>
            <a:ext cx="748656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Объект финансового контроля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341360"/>
            <a:ext cx="77724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7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цессы образования, распределения и использования финансовых ресурсов субъектами хозяйствования и органами государственной власти и местного самоуправления, характеризующиеся системой различных стоимостных показа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Непосредственным предметом проверо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ступают финансовые (стоимостные) показатели 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быль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оходы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ДС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ентабельность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ебестоимость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здержки обращения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числения 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зличные цели и фонд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Franklin Gothic Book"/>
              </a:rPr>
              <a:t>Субъекты финансового контроля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77300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пециально уполномоченные органы, а также квалифицированные специалисты, осуществляющие свою контрольную деятельность в соответствии с нормами прав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Franklin Gothic Book"/>
              </a:rPr>
              <a:t>Основные понятия финансового контроля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836640"/>
            <a:ext cx="77724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оцесс финансового контрол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это процесс целенаправленной деятельности субъектов контроля, осуществляемой с использованием определенных метод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етоды финансового контрол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это конкретные способы осуществления контрольных действий и опера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а контрол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это внешнее выражение контрольных действий и опера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Процедура контрол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это установленный порядок осуществления контрольных действий и опера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Механизм финансового контрол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- это определенная последовательность процедур финансового контроля в совокупности с используемыми методами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Franklin Gothic Book"/>
              </a:rPr>
              <a:t>Принципы финансового контроля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всеобщ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универсальности (заключается в однотипности приемов контроля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глас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достоверности, т.е. контроль должен опираться на правдивые данные о составлении финансового докумен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) действенности, т.е. по результатам проверки должны приниматься определенные 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29:29Z</dcterms:created>
  <dc:creator>www.MRMARKER.ru</dc:creator>
  <dc:description/>
  <dc:language>en-US</dc:language>
  <cp:lastModifiedBy>User</cp:lastModifiedBy>
  <dcterms:modified xsi:type="dcterms:W3CDTF">2020-10-21T11:33:07Z</dcterms:modified>
  <cp:revision>30</cp:revision>
  <dc:subject/>
  <dc:title>Тема 4. Финансовый контроль</dc:title>
</cp:coreProperties>
</file>